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DF84-66B9-45A5-8497-17BDA8910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DC521-243C-4F7F-B439-5A1F8CBE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2287-502D-4289-A8D8-2CC4A611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C94EA-957C-4319-AD17-3730342DF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AD07F-6FF5-404B-B8D4-F05B38517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7031-0F5D-4587-9B4B-2FC52435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1958-4438-4BE5-AF52-3B8073AF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CC88B-EDB9-48CE-A283-CDFE46A9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6A6C-A535-4301-AC2E-C36EC613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BAB8-3721-4E2F-8CF0-80BD7929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1692-9AED-440F-80D2-8F130AEEC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BD24-B42A-4831-8C20-0ACF79B1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90E1-2C6C-42D0-A990-A4216AFF7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AEE-A440-4383-9473-7286B63A0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ichael Pauling</cp:lastModifiedBy>
  <dcterms:modified xsi:type="dcterms:W3CDTF">2008-08-25T19:27:54Z</dcterms:modified>
  <cp:revision>120</cp:revision>
  <dc:subject/>
  <dc:title>Wikispaces for Teachers A guide to using them in your classroom</dc:title>
</cp:coreProperties>
</file>